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E09-23BD-4DF6-A5ED-8E9CBF1D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C03-0B31-4815-A8B5-DF5C8ED7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B93-9185-42F1-8CE7-34477E83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B28-28BD-46C7-B26A-09B94619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73C-11E8-4C82-9691-71A3358F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CAC-5671-4E7D-9439-839DA039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572-4A7F-4A51-824B-B236FC8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158-1E6A-4480-B826-378E07A8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742-8526-4913-ADFE-29F49D13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837-1653-4562-B8A3-29CDF7A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72E-38E4-45D3-AB3C-2648CEA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670-776D-4226-A474-8315B01D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CDEF-DB40-43B5-A07E-6346336BA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op in the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0:32:31Z</dcterms:created>
  <dc:creator>Khalid</dc:creator>
  <dc:description/>
  <dc:language>en-US</dc:language>
  <cp:lastModifiedBy>Khalid</cp:lastModifiedBy>
  <dcterms:modified xsi:type="dcterms:W3CDTF">2006-10-28T00:32:42Z</dcterms:modified>
  <cp:revision>1</cp:revision>
  <dc:subject/>
  <dc:title>Drop in the Ocean</dc:title>
</cp:coreProperties>
</file>